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837-A261-447D-960D-8D22CFCD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456-B5D6-4AE3-83D4-15705920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AE7E7-7B1B-4DA7-ABC7-9048ABDF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F685-DC78-4E88-B045-4E7E2614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90FB8-DC0A-40AB-8437-4E18A7F4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C122C-4982-499A-A985-872DC157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6BA3-4CBD-48F2-83A0-1B7EAEFF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286C-BA36-4B8F-9627-06A89AA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9026-D00F-49A7-88FF-4369038A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E320A-5DAA-4465-9DE1-95C140F9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7F131-18C1-4DD5-BF00-B60BA427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942E3-7B85-4CB6-8BC7-A2F3B7DF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553-8CD5-4C53-B919-34DBFA4B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59209-D25A-4513-BBE8-55B8FE64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DA6DB-2B09-4C99-AF2C-41714B8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01FB7-4266-4B4C-9787-E995B5F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99E33-288D-463D-95B0-F0139EE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7CE9C-46B8-45C1-A76C-729CC383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0D91-C86A-4371-8A14-4F1B154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679AD-3137-41E4-9CCB-984F5D16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04125-3D0A-482B-B8F5-842B5151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A3CC7-7D95-4EE3-B7EF-F6CDE8B3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FA3F0-5B26-40E9-8C70-BEF960EB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49E-9BD2-4653-B360-28A12B20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52E8A-0D26-43C8-81E4-6DB3C5C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01151-CF3F-45B4-976B-A71BAF24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D186D-0C0D-491A-A2EC-A8B0ED6B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3ADF-8544-4C4A-96E7-48F82B87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8A6C3-BEB2-440C-8566-A2ED534B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2DA43-02B5-4370-8AAC-2D86AB6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A7C7F-247F-4760-A223-78A2D8E4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5F947-904D-49D7-A35C-A7FFDC1A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4E95-8155-4EBC-B8B1-57E603B8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AC4DB-0202-4CFB-AA41-9CA0A3AC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4EA4-9EE2-4B93-B2E2-5F23CBBE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C15D8-3025-4C02-8D77-07BE17D5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15EBC-ED2D-4E3D-9B03-5880CE4C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1D34-1EFF-4A0F-A544-3A2C624E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A1B69-BC33-4E8D-ACAF-E7BCE297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5066B-CEB2-4EB1-B76D-C74D3379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F1921-2593-47A6-AC61-649955BE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F4C78-5A62-4DB2-9CD4-D069D7CA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08CAF-60F3-4AAB-A7C0-4F22446C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25E97-0330-4155-AD73-07125A6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77B79-8099-4D11-B826-43075645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E6D9-9656-4621-88E7-1F86235B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13372-9703-4B76-9DBD-717AE231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C6644-58C9-4CD2-9BC3-BA8ED97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C9487-1993-47C9-8216-A31CE8CD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CAD84-0F7E-4BBD-BDA2-8A2DEEE0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A93DC-4035-4F95-9BCF-B83AB283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84D4A-3380-4626-8BE5-31A92D42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5A949-AFD2-4E59-8703-BDE744BF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04AA9-3D69-493F-BA1F-CAE7F374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253B3-F532-4089-B5C8-B756CDF4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3AD92-7AF1-40C6-987F-F7E967CE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661-4321-446E-9095-EC111D5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0DFF9-6F80-4CE2-AB7A-77B591CE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7EF93-3768-4A2A-B732-00AD9488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A5D1C-C21B-45B0-BBA1-E7C78EB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2A37A-B8C2-4711-9AF7-A75DA5C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CCEE4-4C29-4E97-B9D2-092E9D4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20EC6-9192-42D9-8557-885D85F8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B0852-3DA0-4A69-A7BF-6C07C779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0B4D2-7BF7-4C99-9093-FD81B5DC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0C4A8-C847-4048-BB36-9661D72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251D7-0168-4564-BC31-92F38AA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03A0-F384-44E2-953B-041B60C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C9CFA-AFEC-4A89-ADE1-B22D8B89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4B8D2-C081-49C1-84C3-C085CA8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9B861-9126-4154-A5AD-0682ED28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9C57F-D726-4917-B1A2-CF94E2B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DB978-FDD2-4D55-A91F-33DC4A67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873FF7-0447-42EF-AADF-C727D8A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3DC7A-DBD7-43F5-8521-1B60693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7E4B5-5765-45D8-8276-4F1CF0E7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444F5-6AD6-4504-83FE-EDD0F531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E54B2-9079-4580-A815-562EB5AB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D67-E21A-4C47-A429-0595657F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831BB-6385-4C37-9D80-FEE6CADF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3615F-3162-480F-8992-12D75D2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D16AB-6904-4F3C-B876-4080D953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D87AA-B1CB-49FF-855F-1824E1A1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27D73-142B-4CA4-9759-B1004D7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826BD-3FFD-4DEE-B361-8BBA011C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F1176-B440-4F43-BCBA-E4B93F33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E3F66C-4460-4D7B-9645-66D2BEB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EC56D-BC27-45FE-A5AD-714BB37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C6DC9-0503-4948-B7EA-056F6C86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573-C020-4D08-A7D1-0EE43EE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12B34-D729-4C9A-B887-611720F4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693EB-87EA-4DAD-99FE-6D9AE46C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7D833-B120-42F4-8784-2684139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93762-ADC2-404B-AA5D-549A0E0C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8DB55-0E9C-494D-B38E-F0A0A1F5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DFE4B-5F76-476F-9C0D-12113574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000BC-9731-47A3-AA13-DFB3EBA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3BD0F1-5C02-42F4-A9AC-9ED2853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7A53E-9E72-42F6-B42E-CEB3904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9F941-B4C7-458D-A283-61F5C45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A7BC-56CA-417D-8479-47BB47C2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86478-F514-4E0C-AABB-673D445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D81E05-0E24-4713-9588-98A6613B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FD1CF-C003-4D47-A8F0-F8AAD003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2D178-4D98-4B1E-9B9B-876C0226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7E188F-5C7D-457F-9D2F-AB8837BB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3DF4C-B494-4329-AA7A-4347E689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BD525-9EA2-4A70-BBCA-9E67069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A8601-3084-4A2F-AA60-D42BBFA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E3133-E094-4429-A00A-1EE6ABFA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1D00A0-C013-4115-A24C-B37532C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686-3FF7-4E7A-B404-03DCAE7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C212-6C40-4422-8414-A75FE7C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A3064-2B0D-4776-931C-9DA9B26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B311B-4AE6-4E48-BE04-CC8F33E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04F15-A671-40B7-AEAC-ABE44D5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A5768-94B1-451E-8A7D-8F50A8E6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7B321-310F-4288-BF3D-E666E806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5F8B2-B79C-4166-808D-815017E4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8E0B1-B859-446E-9426-458E7746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B56443-5A07-4D1F-9D5C-FAA87AF8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06CC0-FE15-4411-9160-85649A6F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8CB96-BE3B-4A24-BCC6-EED0877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383E-9956-4F4F-8DA4-65FA8C88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F3D2F-1CD2-4653-BB7F-89046A2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6F9EB-7FD6-4F9D-A0DC-D1F89EE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1535E-ACB5-4EDD-B9F2-6F2F0621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D9EB2-6ECF-4293-B3DC-7707FF07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E2705-B2D7-469F-857F-86ADE6F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38FB67-6D7A-4378-A8AA-E15A3353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EF3C1-AE8C-44A7-A4C0-5715EA6B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202F6A-4258-424F-AE89-C3574594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90AF7-0703-47CA-98CC-DBFBA28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74ECD-9154-4382-AA69-138830D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8485-9713-4FA2-8945-6F7A6B4E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C46CB-05BE-4080-8E48-31A7AD9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A6F13A-66CC-45F8-B301-08C039D6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9A789-01DE-4322-BABD-E2A329BD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ABA37-34E3-47EA-BAD3-E6C7417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D6A6D-2DAF-4E2E-A1E7-F58CD98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B7879-C433-430B-A3BF-5563F30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C2BF9-44FC-40F8-8393-2872ADA0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3FE36-5CEA-418D-9754-03CBA7E8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C0FED-5044-4169-873A-6722F9D4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238AF8-B5FC-4458-A75B-FC951C0F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5E15-5D50-475E-A1D3-ABE8337B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1A9B6-E280-48C7-A525-3C5B5CB7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083FA-C0B2-406B-A258-5048822F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D15A3-6A11-46B7-9109-5E2260CA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5B36EC-7957-467D-9EB2-DDFC64BE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818398-A05D-4367-B29A-753D0EB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F1120-8B36-4B96-A5F8-46620500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B5058-27EA-4B3D-A102-A1A1889D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E5CB1-77D4-4627-A219-2BF7FA0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305164-7CE1-40EA-A8D2-9165A364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C448A-E2CB-41ED-B96D-C11A2AE0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057D-F8D1-4185-8252-4DCC3BF7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41A10-69F9-4C24-A5F1-FC2591BA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6A68A-8F0A-4131-8A2C-D96D613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5E0001-F8AA-4FF4-B1DE-1D758A8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D4A93-7762-4765-9BBC-59E2955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12C31-4913-4BD5-B17A-CC20E80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795E0C-82BE-419A-8FBB-2FFF421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70D3F2-93A5-4909-8865-775F3B1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DD406-2336-4A7E-BFBD-957A5CF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7CBB5D-1B73-4358-A160-E4632967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3B072-F9DB-4939-8DD2-9AE109BD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AA9D-9E11-4093-913C-75FD2DAE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60856-8F40-4462-B93D-420441D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07BB19-9F7E-4EEA-B5C9-E212B073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6109A-C2C4-4E6A-86F0-BABCBAD9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7707D-F76D-441F-961C-1A7FC98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13709B-7FFF-48B2-8C1F-BF8A5285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7915D9-A62D-4018-8921-5E9377B6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E3FA9-27B0-46D9-812F-03CF36C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CC2F78-E9F6-4801-8903-D51CAEA5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C7CC6-AF02-49F3-BB4D-0D4E09B3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B4E11-67D7-4051-A46F-1E83561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4939-3C2B-409A-BC14-E3556CD5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824C1E-B09F-4137-8C60-16BA249E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973551-CB20-412D-B884-B5AE647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7A11FE-23EE-42D8-8FF2-474852F6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F5CDDC-7263-4FE7-9842-4E28276F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E0EABE-44AD-4AD3-AD69-C79A775C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9A6EC7-0A42-4797-A0BB-885BEE19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9A5A1-FC6F-4EC1-83C4-60DE667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2F539-AE9B-467C-AA7F-AEDE11DF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BD2D47-4C42-47B6-938B-C96F41BD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39BCC4-9055-4630-BCBB-0A03E45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0873E-AFE6-4534-A386-E1F75428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ABC42-B700-4CDF-934E-6D6CD70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D4E9E-05F9-4874-9F53-0875966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7C411D-51DD-4518-8AC7-958A49B1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5E3A98-A00F-47F4-8560-BE7B9B7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0EBC7-92F8-4F8D-832F-21A9A316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B53679-B561-4242-AA17-D5E444F0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058F2-CC35-4FEE-B20F-C1DC99A3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422135-0685-4A03-A64B-E9B46CBA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6D886D-9DFF-45EC-8D60-E28F489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0BAB1E-A594-4B4D-9D08-928BDDF6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566CF-D99F-4349-9969-39A222E4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A66162-7CBA-4EB0-966D-C5DE2B72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9FB4A5-1980-4968-A282-9D9094C7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475E4E-420D-4C7E-A556-E5C99541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6D7919-2DFE-43AB-9F47-6F6BC59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5B7B7D-B740-40D5-9D97-A8AFE77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4CC912-48EF-42E4-BC5F-07B9ACD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6496E-150E-4E83-8536-CF18D38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0EE0DB-DF37-4F25-A452-A6BF3A51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DAAA4-AE1D-4DD8-A8A4-8D6E3689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24BB01-3EF5-4E20-BBB6-B92EC8B4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E2BF-8764-4E93-AF2C-CE025C2B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E945C8-7E18-4B47-A28A-E2C3B72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01BDE8-1159-47FF-AB9F-DB5D1AF3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C7D5AA-5272-498F-9FD8-C752615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6544D2-E3B1-433C-BB40-92ED43BC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125A9A-B7BD-4084-8D32-3AA4E99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6552A8-B426-4158-A729-F016CF06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4DB79-8F24-4BD3-987B-677061FC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D56DC9-3B1B-4A86-9C7A-96AEDEE9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0849D-C07F-4569-938E-A2B29E5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E6CB9-1A47-41CC-BC35-D3D97A7C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B8A-978E-4B0B-B5A3-25D157F9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5D9E8-A1C0-4466-8686-53E574FA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CCA24-BB86-464E-8F91-CC650706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C2A68B-6B17-4263-98E1-AF916C48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077A19-7B9B-4DC3-A02D-2833898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1F15D7-A23E-48C3-893F-EF20F4AD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F7146-9BC0-4ACF-855A-D11D7930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5DE710-0189-4A25-8284-5CCFF8E0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5A1160-6C52-4848-BBC4-9F4E823F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339885-FC13-4C8E-BFB2-784F2B4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DDA67C-AF54-4F30-8D8C-2FF72087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393CD4-CDE5-475B-9313-C1032EB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2941-E5B6-4A66-95D3-DC5B6309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E10381-67DF-4609-9D6C-956309C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DEB128-883C-44F9-B444-B05A005F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09BE3B-923D-4FCD-B656-20A733FA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9DABD6-5E05-4555-A7C8-708FB24B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B4BCCB-026C-4BCF-BEF8-5CC917FF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185E49-704C-43DA-B9EE-D210663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FBFA3D-F1FA-4C92-BDD1-570B4A5F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D2BDB5-0AC2-41B0-9385-110B6F9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9799C3-267F-4A13-A825-7D931BD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9A9806-317E-46A4-BD5A-419DB63D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64D6-70A8-4F5E-A802-31F73B2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CC703-C9A4-4B1B-976D-E7775B5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D951D4-3BE5-4757-8071-502764C3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0E7BC5-3E7A-4015-96FF-8935480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BC3372-B58C-48C3-B771-BC4334E0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99CD99-C339-4AC8-85B4-71ADA400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15A484-74AA-4B27-B522-CC915002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F88E10-E87D-4D3D-A110-277FF397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E8D872-7513-43E7-B8AA-E2CE699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AFD360-E319-483A-A6E7-E38E5A1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FC4724-45E3-4BA5-8EFA-F91CD77B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8CFA-E057-41B6-B74D-AC8F7C3D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2C6B74-C294-4975-AF1B-9C085D7A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2754B8-862C-4136-B99A-0AB4C915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54B8D4-5D54-476F-98E8-1F29FCF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AB09B8-0CB2-4CA2-8FCD-2B9ADED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4DE34A-8CE7-4311-BB3F-75080F6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9CFD92-1B40-4048-8D8E-62D35429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1F6619-0027-4DEF-9285-4F5D4C99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8BA770-8274-4172-A1E3-35B1B5C0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74B5B3-2AA5-4211-A5CC-3D520AB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26E10A-2167-428B-99C0-B0269096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22EB-70E6-4B63-A2EA-4E426AE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3BDE9D-174C-46EC-90D8-227B1987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464E9D-05F3-4F79-92E5-8EDE0DCB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8E769B-C858-4918-AD0E-3E94E2E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F61E21-8F23-4799-89A2-398642D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8A1978-1620-4198-BF37-7A12F47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58BBE1-85BC-4401-9CEF-9F03F84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19A8F8-A4A1-4AA5-807B-B67C88B5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82D4A0-5EC1-46A6-A65A-4CCF377E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4E519A-B3A1-4345-8539-A4D3C31F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BCA6E0-DCAE-478B-844F-8942D7D1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8FE6-CD69-4ED8-ABF0-0A49FEF6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120836-486B-47B1-BE22-E3A4BA6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F76CE4-1A40-426D-98C5-712167A8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BF7322-B38F-4E15-9856-BB2A17E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1D7A39-0164-4C8A-B7FE-8C87658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17CA6B-85DC-4841-85A1-FDA0A51A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2391FB-9A59-4793-AD74-296723A5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C5C4FE-CD03-4414-9A8D-287A248C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B65085-9DB5-4DD3-B53E-197322E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AD30D2-E6D6-47A6-883A-F6A195C6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B6A304-4AF0-413F-9F91-E918E153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42C2-CCA8-403C-B4B0-6E68338E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4AF48E-1CFD-4E18-92DF-EB55C750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71E07B-345B-4EDE-99EA-68975BB2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E45680-5278-4039-BF25-F086B5A5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180DF7-4159-4694-AA13-B428660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5BE940-3953-4E34-BF93-1EAB31A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E1042B-B6C9-415B-B10F-E473504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AAC417-A1EE-41C7-AB48-57D4FAA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B0A093-44C3-44FA-B888-BF63D20B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06904E-3DD4-450A-93AB-104A0E6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89452E-632B-4965-8318-B326C38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89D6-3637-4CD0-B5A3-A0C55409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F67A8D-9320-4B70-BABA-35268BE1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F636FB-385C-4001-A858-AE0A481F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5CC8E1-BA9E-403F-8C65-DACC9A5F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8A0A-99E8-4B0A-83A9-F6D8880D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AFD6-5694-41A4-AE50-156D05D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5A3-80BA-4051-90F7-FD91CDB0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6FE2C-90F6-4FF0-B343-854CA251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7C30-40A2-4C62-A1BE-2B148C3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2DA42-F2BE-49F3-BDFB-AC17C9F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9E1C-A8C5-4318-A713-61D364E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D8FF1-A3AA-4D9E-98BC-3A0C2295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B86A-EE00-4400-8673-C940BFF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DFBE2-197A-4E01-AD63-BCACDA4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A6AD-87C9-4F5B-B970-83091EB5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5AE12-6BB8-40D9-96B7-DE77DE64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FAA9C-BFD0-41F8-A9DC-AD629B15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C80-46BD-4C2C-BFD8-D079397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3197E-9A89-4748-8B52-09481103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AD4E-A9F2-4787-BD11-C126F7FE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37E5-C244-40AE-A40F-913D1C1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23B9B-8916-4AB8-A34A-F45E2601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B005-18DA-4A2F-91E4-B6FDA38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8EF8-EC01-4AEF-BE92-D2E8CC1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4519-82BF-4D44-B3EE-0E9FA1A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8279-4E50-43CE-A442-D2DB0A4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E9BF-B249-482B-A254-152737C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937C-DAC2-4652-BB59-5F53FE3B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62A-3CB0-4774-84BE-806076B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7878-3D72-4A0C-891E-99784D32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89C79-A168-4716-8AE4-EE10E6B1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25D3B-53DA-4434-8EB8-8B80D68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4CA7B-6B00-41BD-A245-62690464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EDE26-D17B-458C-BCAF-B830020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579B-BBD6-46D4-BCF9-6EF8515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4AF73-C710-44E1-B1F5-8DFB2495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48900-1AA9-4D5A-B125-D21B7E5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4E0A-8767-49B6-A446-1B6EA25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AD37-E11A-41DE-9D33-2B5F758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D22-9782-47A4-9195-3C8939E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6ECEB-C641-4643-8866-EF706088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D2B1-3F75-4CF6-B792-FEC2AAB8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0CC87-D022-4A38-B1EC-534273C5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D3C4-0FAE-478A-B23A-533B7B9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F30F-EC40-422F-A138-3F4BE4FF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97464-4DA0-40BC-A1DC-C371048E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D5127-A3BD-4B0C-8572-05B78D9C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2682-7459-4226-9934-F71B7034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AD500-3D4F-4D12-9297-1089529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0107-0B67-42C2-B5CF-84B57F0F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D3C-3B1A-4C08-9868-FC02E84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569F2-D14E-4C20-B37B-7542824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F47D-3931-46FA-8E7B-918C48B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3C84-B7B0-43F8-9477-E28087A6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367C-6F8F-42B2-8075-6E7F61FC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8A383-7336-4BB0-B5D9-D0964F24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14F9-407A-45DE-90E8-B23CEB7F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BF24C-FFD4-4CDF-A8FC-8C6A089C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B6A5-3EA5-4AE9-BF93-6D18258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29E94-8F23-4448-BAA1-B900BBEA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6176-590C-432E-AE6C-03FBCB2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8FF-F350-4335-A2F0-56603FA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92F9-B81F-4C00-8348-52A271DF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EA37-05BC-433C-BF43-58DCC80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B6A4-0F18-4491-9320-AE01380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D285-A437-44B1-A151-97AE1D89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E263-7436-441A-AF85-4FED86D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DA4B-FF5A-4A9F-B046-961E0DB9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D1FF1-BE8E-4594-A271-FC5B0B7C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3C0C1-A2FB-458E-A838-DD2B329B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FD27A-A32F-49F7-9652-C808F99C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69FF4-05A5-43CF-94F7-129F5CA4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01D2-CE4B-464F-9BA1-24DFBE98BF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A54-A16F-4219-9015-745E28564E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727-B6A4-4FB2-9160-B7BE56672E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C11-67D7-47F8-890C-96B2D1D018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0CD6-1CFD-404B-8A9C-C9CA91A4D6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58D0-4B53-47CE-A46E-6B3F7DE8C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B05B-2B41-40E4-BF6B-69CBE14BD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217-A723-4AD3-A77A-06AA9F4DA4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7D74-EA69-4C75-BAE6-E26343421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0FD7-B877-43B6-9340-067C7636F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AE4-882A-4F22-94D1-13AA628B1A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27D-07C5-4E7B-9B4B-8B8CA3F771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EB1-1307-457D-A78D-AC54C667D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04FE-51A2-4D19-8D98-B2A1DAD2C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EC7F-8737-4A55-8B38-84030C4E5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6D66-4DB7-4468-A018-4DA699876E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78C-31E8-47DB-B249-35D008B98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1A96-08F2-474D-A8D7-616BFFCFAF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2C7-68EB-4EFE-9F74-CB9AC4F3A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E38D-12C8-4B14-9982-644E5EA42D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BA2B-BBD6-4AA6-8EFA-BA10B7D468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ECBF-B4C3-4D97-8F15-CE1F9114FA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513-C9AE-4CC7-B60F-6AF38510F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9965-98BE-48C9-9CA6-09F1189FDB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40F8-673A-49E9-A02F-603C266AE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9B0-124F-465F-A598-ADD9D1BA7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35B1-79A6-4BD9-A445-F077D1C21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62CC-676A-4700-95EA-26EFA9195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5D06-02D9-495A-8992-4E896B242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574C-2D9D-4DBE-8DD1-E26743C727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4388-0447-4A07-8FD5-912ED1CF1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B14-1C68-405D-A852-B55D35DC7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A2F-C795-4DF6-86B4-D1329A502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91A7-F5D2-4D02-8921-B4AFEF2F68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D35C-410E-4BB5-827C-C47C1F767F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B292-C006-4ADD-B4D0-5EEC0F9C4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B86B-876B-416B-BD39-DFBC30E944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5ED8-6493-451A-945E-69C4DDED2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0B5C-48E6-42DE-A6D4-F7A2926B37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E967-CCC3-401E-8B09-4F30D7411B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EC3-1290-4C28-B1AD-A3932A9207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5DEE-21DD-4314-9B05-52CE7ADDA1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42D6-590F-4606-B381-FF98A35C5A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0DCA-0A7C-4007-80FD-1722B218C7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EAFE-3620-428B-9EF6-C70BABEA5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E83D-0FE7-4B60-9B8B-57809D93BB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B4E9-2E2F-4A5A-881B-34851A6FA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6B31-2D60-4271-872B-79CB197868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C38-A9C5-4457-9113-1F1D8D44D3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A28F-25F2-4DE0-BBF8-386A825E0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438280" y="3000240"/>
            <a:ext cx="42674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673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48680" cy="53146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6738"/>
          <p:cNvSpPr/>
          <p:nvPr/>
        </p:nvSpPr>
        <p:spPr>
          <a:xfrm>
            <a:off x="6246720" y="2511360"/>
            <a:ext cx="505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39"/>
          <p:cNvSpPr/>
          <p:nvPr/>
        </p:nvSpPr>
        <p:spPr>
          <a:xfrm>
            <a:off x="5580000" y="2997360"/>
            <a:ext cx="30481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6740"/>
          <p:cNvSpPr/>
          <p:nvPr/>
        </p:nvSpPr>
        <p:spPr>
          <a:xfrm>
            <a:off x="1446120" y="3463920"/>
            <a:ext cx="29037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6741"/>
          <p:cNvSpPr/>
          <p:nvPr/>
        </p:nvSpPr>
        <p:spPr>
          <a:xfrm>
            <a:off x="6640560" y="4441680"/>
            <a:ext cx="18921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42"/>
          <p:cNvSpPr/>
          <p:nvPr/>
        </p:nvSpPr>
        <p:spPr>
          <a:xfrm>
            <a:off x="1509840" y="4924440"/>
            <a:ext cx="723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6743"/>
          <p:cNvSpPr/>
          <p:nvPr/>
        </p:nvSpPr>
        <p:spPr>
          <a:xfrm>
            <a:off x="1459080" y="5394240"/>
            <a:ext cx="723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6744"/>
          <p:cNvSpPr/>
          <p:nvPr/>
        </p:nvSpPr>
        <p:spPr>
          <a:xfrm>
            <a:off x="1187280" y="5877000"/>
            <a:ext cx="70567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5713" descr=""/>
          <p:cNvPicPr/>
          <p:nvPr/>
        </p:nvPicPr>
        <p:blipFill>
          <a:blip r:embed="rId1"/>
          <a:stretch/>
        </p:blipFill>
        <p:spPr>
          <a:xfrm>
            <a:off x="423720" y="1662120"/>
            <a:ext cx="8296560" cy="35337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5714"/>
          <p:cNvSpPr/>
          <p:nvPr/>
        </p:nvSpPr>
        <p:spPr>
          <a:xfrm>
            <a:off x="6259680" y="306864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5715"/>
          <p:cNvSpPr/>
          <p:nvPr/>
        </p:nvSpPr>
        <p:spPr>
          <a:xfrm>
            <a:off x="3008160" y="3538440"/>
            <a:ext cx="8337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5716"/>
          <p:cNvSpPr/>
          <p:nvPr/>
        </p:nvSpPr>
        <p:spPr>
          <a:xfrm>
            <a:off x="6424560" y="355140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5717"/>
          <p:cNvSpPr/>
          <p:nvPr/>
        </p:nvSpPr>
        <p:spPr>
          <a:xfrm>
            <a:off x="2944800" y="403380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5718"/>
          <p:cNvSpPr/>
          <p:nvPr/>
        </p:nvSpPr>
        <p:spPr>
          <a:xfrm>
            <a:off x="1928880" y="4567320"/>
            <a:ext cx="343512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4689" descr=""/>
          <p:cNvPicPr/>
          <p:nvPr/>
        </p:nvPicPr>
        <p:blipFill>
          <a:blip r:embed="rId1"/>
          <a:stretch/>
        </p:blipFill>
        <p:spPr>
          <a:xfrm>
            <a:off x="1047600" y="1881360"/>
            <a:ext cx="7048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3665" descr=""/>
          <p:cNvPicPr/>
          <p:nvPr/>
        </p:nvPicPr>
        <p:blipFill>
          <a:blip r:embed="rId1"/>
          <a:stretch/>
        </p:blipFill>
        <p:spPr>
          <a:xfrm>
            <a:off x="433440" y="1176480"/>
            <a:ext cx="82771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264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34560" cy="123840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2642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39040" cy="26478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2643"/>
          <p:cNvSpPr/>
          <p:nvPr/>
        </p:nvSpPr>
        <p:spPr>
          <a:xfrm>
            <a:off x="4140360" y="1569960"/>
            <a:ext cx="71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2644"/>
          <p:cNvSpPr/>
          <p:nvPr/>
        </p:nvSpPr>
        <p:spPr>
          <a:xfrm>
            <a:off x="7543800" y="155736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2645"/>
          <p:cNvSpPr/>
          <p:nvPr/>
        </p:nvSpPr>
        <p:spPr>
          <a:xfrm>
            <a:off x="5918040" y="211608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2646"/>
          <p:cNvSpPr/>
          <p:nvPr/>
        </p:nvSpPr>
        <p:spPr>
          <a:xfrm>
            <a:off x="2298600" y="323388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2647"/>
          <p:cNvSpPr/>
          <p:nvPr/>
        </p:nvSpPr>
        <p:spPr>
          <a:xfrm>
            <a:off x="2260440" y="398304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2648"/>
          <p:cNvSpPr/>
          <p:nvPr/>
        </p:nvSpPr>
        <p:spPr>
          <a:xfrm>
            <a:off x="2158920" y="469440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1618" descr=""/>
          <p:cNvPicPr/>
          <p:nvPr/>
        </p:nvPicPr>
        <p:blipFill>
          <a:blip r:embed="rId1"/>
          <a:stretch/>
        </p:blipFill>
        <p:spPr>
          <a:xfrm>
            <a:off x="433440" y="1305000"/>
            <a:ext cx="8277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10593" descr=""/>
          <p:cNvPicPr/>
          <p:nvPr/>
        </p:nvPicPr>
        <p:blipFill>
          <a:blip r:embed="rId1"/>
          <a:stretch/>
        </p:blipFill>
        <p:spPr>
          <a:xfrm>
            <a:off x="461880" y="1566720"/>
            <a:ext cx="8220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9569" descr=""/>
          <p:cNvPicPr/>
          <p:nvPr/>
        </p:nvPicPr>
        <p:blipFill>
          <a:blip r:embed="rId1"/>
          <a:stretch/>
        </p:blipFill>
        <p:spPr>
          <a:xfrm>
            <a:off x="600120" y="2085840"/>
            <a:ext cx="7943760" cy="268632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9570"/>
          <p:cNvSpPr/>
          <p:nvPr/>
        </p:nvSpPr>
        <p:spPr>
          <a:xfrm>
            <a:off x="2995560" y="2708280"/>
            <a:ext cx="121608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1"/>
          <p:cNvSpPr/>
          <p:nvPr/>
        </p:nvSpPr>
        <p:spPr>
          <a:xfrm>
            <a:off x="5891040" y="2708280"/>
            <a:ext cx="17766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2"/>
          <p:cNvSpPr/>
          <p:nvPr/>
        </p:nvSpPr>
        <p:spPr>
          <a:xfrm>
            <a:off x="2970360" y="3787920"/>
            <a:ext cx="12157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3"/>
          <p:cNvSpPr/>
          <p:nvPr/>
        </p:nvSpPr>
        <p:spPr>
          <a:xfrm>
            <a:off x="6005520" y="3787920"/>
            <a:ext cx="121608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0854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2484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7521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48680" cy="51339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7522"/>
          <p:cNvSpPr/>
          <p:nvPr/>
        </p:nvSpPr>
        <p:spPr>
          <a:xfrm>
            <a:off x="1852560" y="2270160"/>
            <a:ext cx="67518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3"/>
          <p:cNvSpPr/>
          <p:nvPr/>
        </p:nvSpPr>
        <p:spPr>
          <a:xfrm>
            <a:off x="1128600" y="2879640"/>
            <a:ext cx="1498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4"/>
          <p:cNvSpPr/>
          <p:nvPr/>
        </p:nvSpPr>
        <p:spPr>
          <a:xfrm>
            <a:off x="6297480" y="3946680"/>
            <a:ext cx="2306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5"/>
          <p:cNvSpPr/>
          <p:nvPr/>
        </p:nvSpPr>
        <p:spPr>
          <a:xfrm>
            <a:off x="1636560" y="4492800"/>
            <a:ext cx="63914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6"/>
          <p:cNvSpPr/>
          <p:nvPr/>
        </p:nvSpPr>
        <p:spPr>
          <a:xfrm>
            <a:off x="2373480" y="5521320"/>
            <a:ext cx="23065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324000" y="2152800"/>
            <a:ext cx="8496000" cy="25524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1"/>
          <p:cNvSpPr/>
          <p:nvPr/>
        </p:nvSpPr>
        <p:spPr>
          <a:xfrm>
            <a:off x="4643280" y="2924280"/>
            <a:ext cx="8654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2"/>
          <p:cNvSpPr/>
          <p:nvPr/>
        </p:nvSpPr>
        <p:spPr>
          <a:xfrm>
            <a:off x="5481720" y="3355920"/>
            <a:ext cx="18986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3"/>
          <p:cNvSpPr/>
          <p:nvPr/>
        </p:nvSpPr>
        <p:spPr>
          <a:xfrm>
            <a:off x="3436920" y="3838680"/>
            <a:ext cx="19987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4"/>
          <p:cNvSpPr/>
          <p:nvPr/>
        </p:nvSpPr>
        <p:spPr>
          <a:xfrm>
            <a:off x="592200" y="4282920"/>
            <a:ext cx="86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5"/>
          <p:cNvSpPr/>
          <p:nvPr/>
        </p:nvSpPr>
        <p:spPr>
          <a:xfrm>
            <a:off x="3635280" y="4317840"/>
            <a:ext cx="865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5" descr=""/>
          <p:cNvPicPr/>
          <p:nvPr/>
        </p:nvPicPr>
        <p:blipFill>
          <a:blip r:embed="rId1"/>
          <a:stretch/>
        </p:blipFill>
        <p:spPr>
          <a:xfrm>
            <a:off x="343080" y="2181240"/>
            <a:ext cx="8458200" cy="24955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7"/>
          <p:cNvSpPr/>
          <p:nvPr/>
        </p:nvSpPr>
        <p:spPr>
          <a:xfrm>
            <a:off x="3800520" y="2527200"/>
            <a:ext cx="55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7559640" y="2527200"/>
            <a:ext cx="97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2949480" y="2933640"/>
            <a:ext cx="31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2403360" y="3390840"/>
            <a:ext cx="1376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11"/>
          <p:cNvSpPr/>
          <p:nvPr/>
        </p:nvSpPr>
        <p:spPr>
          <a:xfrm>
            <a:off x="4572000" y="3405240"/>
            <a:ext cx="555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12"/>
          <p:cNvSpPr/>
          <p:nvPr/>
        </p:nvSpPr>
        <p:spPr>
          <a:xfrm>
            <a:off x="6429240" y="3835440"/>
            <a:ext cx="23194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13"/>
          <p:cNvSpPr/>
          <p:nvPr/>
        </p:nvSpPr>
        <p:spPr>
          <a:xfrm>
            <a:off x="1082520" y="4292640"/>
            <a:ext cx="1041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14"/>
          <p:cNvSpPr/>
          <p:nvPr/>
        </p:nvSpPr>
        <p:spPr>
          <a:xfrm>
            <a:off x="4194000" y="4280040"/>
            <a:ext cx="1041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328680" y="1852560"/>
            <a:ext cx="8486640" cy="31528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8028000" y="32130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3"/>
          <p:cNvSpPr/>
          <p:nvPr/>
        </p:nvSpPr>
        <p:spPr>
          <a:xfrm>
            <a:off x="8101080" y="39337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1857" descr=""/>
          <p:cNvPicPr/>
          <p:nvPr/>
        </p:nvPicPr>
        <p:blipFill>
          <a:blip r:embed="rId1"/>
          <a:stretch/>
        </p:blipFill>
        <p:spPr>
          <a:xfrm>
            <a:off x="295200" y="2052720"/>
            <a:ext cx="8553600" cy="27525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1859"/>
          <p:cNvSpPr/>
          <p:nvPr/>
        </p:nvSpPr>
        <p:spPr>
          <a:xfrm>
            <a:off x="8040600" y="2565360"/>
            <a:ext cx="50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0"/>
          <p:cNvSpPr/>
          <p:nvPr/>
        </p:nvSpPr>
        <p:spPr>
          <a:xfrm>
            <a:off x="8066160" y="40640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0833" descr=""/>
          <p:cNvPicPr/>
          <p:nvPr/>
        </p:nvPicPr>
        <p:blipFill>
          <a:blip r:embed="rId1"/>
          <a:stretch/>
        </p:blipFill>
        <p:spPr>
          <a:xfrm>
            <a:off x="314280" y="1628640"/>
            <a:ext cx="8515440" cy="36007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0834"/>
          <p:cNvSpPr/>
          <p:nvPr/>
        </p:nvSpPr>
        <p:spPr>
          <a:xfrm>
            <a:off x="3071880" y="3260880"/>
            <a:ext cx="3516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5"/>
          <p:cNvSpPr/>
          <p:nvPr/>
        </p:nvSpPr>
        <p:spPr>
          <a:xfrm>
            <a:off x="5192640" y="3616200"/>
            <a:ext cx="2116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0836"/>
          <p:cNvSpPr/>
          <p:nvPr/>
        </p:nvSpPr>
        <p:spPr>
          <a:xfrm>
            <a:off x="2233440" y="4010040"/>
            <a:ext cx="169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0837"/>
          <p:cNvSpPr/>
          <p:nvPr/>
        </p:nvSpPr>
        <p:spPr>
          <a:xfrm>
            <a:off x="1623960" y="4378320"/>
            <a:ext cx="28767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38"/>
          <p:cNvSpPr/>
          <p:nvPr/>
        </p:nvSpPr>
        <p:spPr>
          <a:xfrm>
            <a:off x="7211880" y="4518000"/>
            <a:ext cx="600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9"/>
          <p:cNvSpPr/>
          <p:nvPr/>
        </p:nvSpPr>
        <p:spPr>
          <a:xfrm>
            <a:off x="1776240" y="4873680"/>
            <a:ext cx="600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0840"/>
          <p:cNvSpPr/>
          <p:nvPr/>
        </p:nvSpPr>
        <p:spPr>
          <a:xfrm>
            <a:off x="3097080" y="4898880"/>
            <a:ext cx="600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9809" descr=""/>
          <p:cNvPicPr/>
          <p:nvPr/>
        </p:nvPicPr>
        <p:blipFill>
          <a:blip r:embed="rId1"/>
          <a:stretch/>
        </p:blipFill>
        <p:spPr>
          <a:xfrm>
            <a:off x="352440" y="2585880"/>
            <a:ext cx="8439120" cy="168624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9810"/>
          <p:cNvSpPr/>
          <p:nvPr/>
        </p:nvSpPr>
        <p:spPr>
          <a:xfrm>
            <a:off x="3059280" y="2612880"/>
            <a:ext cx="1441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9811"/>
          <p:cNvSpPr/>
          <p:nvPr/>
        </p:nvSpPr>
        <p:spPr>
          <a:xfrm>
            <a:off x="5040360" y="2600280"/>
            <a:ext cx="1441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9812"/>
          <p:cNvSpPr/>
          <p:nvPr/>
        </p:nvSpPr>
        <p:spPr>
          <a:xfrm>
            <a:off x="7656480" y="3375000"/>
            <a:ext cx="1019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9813"/>
          <p:cNvSpPr/>
          <p:nvPr/>
        </p:nvSpPr>
        <p:spPr>
          <a:xfrm>
            <a:off x="976320" y="3794040"/>
            <a:ext cx="1019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5" descr=""/>
          <p:cNvPicPr/>
          <p:nvPr/>
        </p:nvPicPr>
        <p:blipFill>
          <a:blip r:embed="rId1"/>
          <a:stretch/>
        </p:blipFill>
        <p:spPr>
          <a:xfrm>
            <a:off x="461880" y="1433520"/>
            <a:ext cx="8220240" cy="39909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6"/>
          <p:cNvSpPr/>
          <p:nvPr/>
        </p:nvSpPr>
        <p:spPr>
          <a:xfrm>
            <a:off x="7885080" y="25876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7761" descr=""/>
          <p:cNvPicPr/>
          <p:nvPr/>
        </p:nvPicPr>
        <p:blipFill>
          <a:blip r:embed="rId1"/>
          <a:stretch/>
        </p:blipFill>
        <p:spPr>
          <a:xfrm>
            <a:off x="438120" y="2214720"/>
            <a:ext cx="8267760" cy="24285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7762"/>
          <p:cNvSpPr/>
          <p:nvPr/>
        </p:nvSpPr>
        <p:spPr>
          <a:xfrm>
            <a:off x="7885080" y="23493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9:18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